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2FA-A155-41B5-A72E-37DD19659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04F8-3F29-43DC-94A4-23196585F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1777-018B-4F5F-B207-0EB59E49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D4B0-ECE6-4502-9EF5-A05A5B72E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8B-4ACA-454A-9427-F912B4B74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0A3F-5A97-4527-94CA-A3F423532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E1B2-DFD4-4821-9181-AD6940CA8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224-BC06-4592-9465-64F7FFEE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48F-BED4-42CC-A78F-0AE69EF02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8FA9-6753-41FA-AA6E-7FDB3057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8060-5513-4FA6-A5B5-BAB6EC20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2D3E-9DAB-4EBF-869E-7D3EFBF7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482D-3D9F-4A10-BCDA-3BFF750A9453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C00A1-CB86-4409-987B-7B05D8BF77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570564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1547640" y="1728720"/>
            <a:ext cx="504036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Microsoft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owerPoint </a:t>
            </a:r>
            <a:r>
              <a:rPr b="0" i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标题 1"/>
          <p:cNvSpPr/>
          <p:nvPr/>
        </p:nvSpPr>
        <p:spPr>
          <a:xfrm>
            <a:off x="2262240" y="2232000"/>
            <a:ext cx="378612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商务幻灯片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grpSp>
        <p:nvGrpSpPr>
          <p:cNvPr id="45" name="Group 3"/>
          <p:cNvGrpSpPr/>
          <p:nvPr/>
        </p:nvGrpSpPr>
        <p:grpSpPr>
          <a:xfrm>
            <a:off x="2324160" y="1995480"/>
            <a:ext cx="4495680" cy="719280"/>
            <a:chOff x="2324160" y="1995480"/>
            <a:chExt cx="4495680" cy="719280"/>
          </a:xfrm>
        </p:grpSpPr>
        <p:sp>
          <p:nvSpPr>
            <p:cNvPr id="46" name="圆角矩形 5"/>
            <p:cNvSpPr/>
            <p:nvPr/>
          </p:nvSpPr>
          <p:spPr>
            <a:xfrm>
              <a:off x="2324160" y="2052720"/>
              <a:ext cx="4495680" cy="6044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标题 1"/>
            <p:cNvSpPr/>
            <p:nvPr/>
          </p:nvSpPr>
          <p:spPr>
            <a:xfrm>
              <a:off x="3126960" y="1995480"/>
              <a:ext cx="28900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6"/>
          <p:cNvGrpSpPr/>
          <p:nvPr/>
        </p:nvGrpSpPr>
        <p:grpSpPr>
          <a:xfrm>
            <a:off x="2324160" y="2967120"/>
            <a:ext cx="4495680" cy="718920"/>
            <a:chOff x="2324160" y="2967120"/>
            <a:chExt cx="4495680" cy="718920"/>
          </a:xfrm>
        </p:grpSpPr>
        <p:sp>
          <p:nvSpPr>
            <p:cNvPr id="49" name="圆角矩形 8"/>
            <p:cNvSpPr/>
            <p:nvPr/>
          </p:nvSpPr>
          <p:spPr>
            <a:xfrm>
              <a:off x="2324160" y="3024360"/>
              <a:ext cx="4495680" cy="60408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标题 1"/>
            <p:cNvSpPr/>
            <p:nvPr/>
          </p:nvSpPr>
          <p:spPr>
            <a:xfrm>
              <a:off x="3126960" y="2967120"/>
              <a:ext cx="289008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9"/>
          <p:cNvGrpSpPr/>
          <p:nvPr/>
        </p:nvGrpSpPr>
        <p:grpSpPr>
          <a:xfrm>
            <a:off x="2324160" y="3940200"/>
            <a:ext cx="4495680" cy="717480"/>
            <a:chOff x="2324160" y="3940200"/>
            <a:chExt cx="4495680" cy="717480"/>
          </a:xfrm>
        </p:grpSpPr>
        <p:sp>
          <p:nvSpPr>
            <p:cNvPr id="52" name="圆角矩形 11"/>
            <p:cNvSpPr/>
            <p:nvPr/>
          </p:nvSpPr>
          <p:spPr>
            <a:xfrm>
              <a:off x="2324160" y="3997440"/>
              <a:ext cx="4495680" cy="602640"/>
            </a:xfrm>
            <a:prstGeom prst="roundRect">
              <a:avLst>
                <a:gd name="adj" fmla="val 16667"/>
              </a:avLst>
            </a:prstGeom>
            <a:solidFill>
              <a:srgbClr val="c5d8f1">
                <a:alpha val="25000"/>
              </a:srgbClr>
            </a:solidFill>
            <a:ln w="19080">
              <a:solidFill>
                <a:srgbClr val="17365d">
                  <a:alpha val="72000"/>
                </a:srgbClr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标题 1"/>
            <p:cNvSpPr/>
            <p:nvPr/>
          </p:nvSpPr>
          <p:spPr>
            <a:xfrm>
              <a:off x="3126960" y="3940200"/>
              <a:ext cx="28900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79"/>
          <p:cNvSpPr/>
          <p:nvPr/>
        </p:nvSpPr>
        <p:spPr>
          <a:xfrm>
            <a:off x="1825560" y="3484440"/>
            <a:ext cx="6782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"/>
          <p:cNvSpPr/>
          <p:nvPr/>
        </p:nvSpPr>
        <p:spPr>
          <a:xfrm>
            <a:off x="241200" y="2647800"/>
            <a:ext cx="86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华文细黑"/>
                <a:ea typeface="华文细黑"/>
              </a:rPr>
              <a:t>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4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9" name="标题 1"/>
          <p:cNvSpPr/>
          <p:nvPr/>
        </p:nvSpPr>
        <p:spPr>
          <a:xfrm>
            <a:off x="2459160" y="1994040"/>
            <a:ext cx="378612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您的支持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12:10:00Z</dcterms:created>
  <dc:creator>Microsoft</dc:creator>
  <dc:description/>
  <cp:keywords/>
  <dc:language>en-US</dc:language>
  <cp:lastModifiedBy>Administrator</cp:lastModifiedBy>
  <dcterms:modified xsi:type="dcterms:W3CDTF">2015-01-04T02:23:51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67</vt:lpwstr>
  </property>
</Properties>
</file>